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F64-6C89-4F89-B133-7181F778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7FF-C43D-438F-A960-164655E1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CFE-D2D6-4692-93A4-84FA155A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3B5-DBF7-4D36-AEE4-6E0863FE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0BAC-14C9-4E19-AD4A-E18055DF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1203-8D68-4A51-86C7-F057ACC9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6658-0C6F-45C9-946B-057F38F8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7D23-8CB5-43A2-A962-5DFD726F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3F5D-81D8-48EC-BCC2-A142F13C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DE34-1929-42B8-91F1-6624BC75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E2BB-5DEB-47B7-97CB-AE905A6C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BC1-FDC7-4FB7-8175-BAA7587D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9350-5354-4703-B36D-6ECF6E09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F371-4E2E-42A4-8380-D2C32920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8826-1FDB-4810-A5FB-454DBCC4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470C-1595-4E72-93EC-CE61FB74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6731-FE38-44B3-A6A1-0E686D79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350-1A8D-4A94-8183-B8DD8EA9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313-9E1B-47A2-B608-69AB5864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874-3AE2-48BD-9F20-35EA6209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08C-4A4B-48BF-926A-B0CBC9DD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750-669D-43DE-B379-59C7BB68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ECA-6F0B-4A12-96C1-EA7B6838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590-0345-4C41-9EE8-A70335FE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7AF1-15FB-4B09-8969-AE6717644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0444-D569-4E83-9CC1-F8278484D2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Realizace záměru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z peněz stavby obchvat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Rozloha cca 17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40 cm zeminy – 170 000m2 x 0,4 m= 68 000 m3  (možný prodej)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o hloubky 2,5 – 4,5 m jsou písčité jíly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3,5 x 170 000m2=600 000 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1,2kg/m3 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emnozrnné štěrky 3,5 – 6,5m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5m x 100 000m2= 500 000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2kg/m3 x 500 000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1mil. t jemnozrnného štěrk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Prodej štěrku 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tavební firma, která by vrstvy jílu a štěrku těžila by byla schopna vytěžit ročně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300 tis. M3 štěrk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200 tis. M3 jíl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z celkové plochy cca 10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ále je firma schopna ročně prodat cca 150-300 tis. M3 štěrku.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ílové vrstvy by se použily na protipovodňový va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oučasné ceny za tunu štěrku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60 Kč – netříděný materiál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90 Kč –tříděný materiál</a:t>
            </a:r>
            <a:br>
              <a:rPr sz="1200"/>
            </a:br>
            <a:br>
              <a:rPr sz="12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6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Štěrky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 - 1mil. t jemnozrnného štěrku x 6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60 mil Kč</a:t>
            </a:r>
            <a:br>
              <a:rPr sz="1600"/>
            </a:b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1mil. t jemnozrnného štěrku x 9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90 mil Kč</a:t>
            </a:r>
            <a:br>
              <a:rPr sz="16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ena těžby ?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Písčité jíly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600 000 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– možnost uplatnit v protipovodňovém valu, nebo využití v rámci sendvičových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násypů (střídání vrstev jílu s vhodnou zeminou)</a:t>
            </a: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Realizace</a:t>
            </a:r>
            <a:br>
              <a:rPr sz="20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1:</a:t>
            </a:r>
            <a:br>
              <a:rPr sz="16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yklostezka obousměrná  s chodníkem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cca 1,5 km x 3m x 1500 kč/m2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750.000,-Kč.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arkoviště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(min u jezu) bet. dlažba cca 2200m2 x 1600,-Kč 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.520.000,-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říjezdová cest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800Kč/m2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 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00m=1.080.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Zeleň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př. 30 450 m2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0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Úprava břehů jezer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navážka př. 15000 m3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4.8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Osvětlení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1 ks á 10.000,-Kč X cca 150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.500.000 Kč 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avičky 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10.000,-Kč 30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00 000 Kč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O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dpadkové koše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9.000,-Kč 15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35 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Informační – navigační systém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200 000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elkem : </a:t>
            </a:r>
            <a:br>
              <a:rPr sz="1400"/>
            </a:b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24.285.000 – 30.000.000 Kč,-</a:t>
            </a:r>
            <a:br>
              <a:rPr sz="20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2:</a:t>
            </a:r>
            <a:br>
              <a:rPr sz="1600"/>
            </a:b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latové chodníky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ávky přes Očovský járek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sportoviště  - víceúčelové hřiště 37x37m cca 4.000.000,-Kč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eřejné WC – cca 4.000.000,-Kč</a:t>
            </a:r>
            <a:br>
              <a:rPr sz="14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b7"/>
                </a:solidFill>
                <a:latin typeface="Arial Black"/>
              </a:rPr>
              <a:t>Vyjádření odborů.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A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Doporučuji další prověření záměru zadáním vypracování komplexního biologického průzkumu a  zadáním geologického průzkumu a provedením minimálně 2-4 vrtů v zamýšlené lokalitě. Bez těchto průzkumů nejsme schopni vypočítat předběžnou návratnost a realizovatelnost záměru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OR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K výkupu nemám námitek, dle stávajících podkladů není tento záměr stanoven jako priorita. Priority budou dohodnuty při realizaci strategického plánu. Doporučuji tento záměr posoudit současně s celkovou strategií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IaD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ako záměr pro rozvoj města to není špatná myšlenka, ale záměr nutno vyřešit nejdříve z hlediska vlastnických vztahů, tam však není priorita.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PO: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e nutné zvážit výši finančních prostředků pro vykupování pozemků – záměr je vhodný. 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ŽPaZ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zhledem k obrovské nákladnosti majetkových vztahů a dalším okolnostem nedoporučuji. Proto doporučuji zvážit i finanční náklady na zjišťovací proces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DSA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utno prověřit, zda může být lázeňský park umístěn v suchém poldru. U sportovišť je nutné zajistit parkovací místa a zázemí šaten. </a:t>
            </a:r>
            <a:br>
              <a:rPr sz="1400"/>
            </a:br>
            <a:r>
              <a:rPr b="0" lang="cs-CZ" sz="1600" spc="-1" strike="noStrike">
                <a:solidFill>
                  <a:srgbClr val="ffffb7"/>
                </a:solidFill>
                <a:latin typeface="Arial Black"/>
              </a:rPr>
              <a:t>OKH</a:t>
            </a:r>
            <a:br>
              <a:rPr sz="16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epovažuji za prioritu města, doporučuji řešit až na to budou finanční prostředky.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zemní plán města Hodoní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rh: Ing. arch. R. Kubrická, architekt mě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3194280" cy="439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3194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26920" y="98100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kalita Očovských luk z hlediska územního plánu města Hodoní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345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137200"/>
            <a:ext cx="856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le závazné části územního plánu je v současné době funkční využití tohoto území charakterizováno jako přírodní krajinná zóna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řírodní park). Územím prochází panelová komunikace, která od sídliště vymezuje rozvojové plochy pro veřejnou zeleň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arky, sloužící pro odpočinek obyvatel) a sport a rekreaci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lochy pro sportovní zařízení). Blíže k veslařskému klubu je navržena plocha pro sportovní zařízení s možností koupání – přírodní koupaliště (ozn.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k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). Všechny výše uvedené rozvojové plochy jsou vymezeny jako veřejně prospěšné stavb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okalita Očovských luk z hlediska „NATURA 2000“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64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Ekonomická analýza záměru prodloužení lázeňského parku do prostoru Očovských luk.</a:t>
            </a:r>
            <a:br>
              <a:rPr sz="1400"/>
            </a:b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Výkupy pozemků</a:t>
            </a: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2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y a sportoviště 5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na cca 10 kč/m2 = </a:t>
            </a: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7 mil. Kč</a:t>
            </a:r>
            <a:br>
              <a:rPr sz="1600"/>
            </a:b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Geologický průzkum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růzkumy + studium – cca 13 3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vytýčení vrtů, geologické práce, laboratorní práce – 66 600 Kč +19% DP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lkem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95 000 Kč</a:t>
            </a: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Zpracování PD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 biologický průzkum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70 000 tis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(Stanovení zásad diferenciace území z hlediska jeho přírodníc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odnot)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Rozptylová studie (parkoviště)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Zpracování oznámení pro posouzení vlivu na ŽP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2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ydrogeologický průzkum ?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Studie posouzení tech. stavu a likvidace sond cca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3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geometrické zaměření území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ůzkumy a rozbory – cca 0.5 -0.7mil.  Kč,-</a:t>
            </a:r>
            <a:br>
              <a:rPr sz="1600"/>
            </a:b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Ú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0,5 mil. Kč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+ cenový odhad nákladů stavby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ST.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.-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,5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Prováděcí projekt ?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ojekční práce cca 2-4 mil. Kč,-</a:t>
            </a:r>
            <a:br>
              <a:rPr sz="1600"/>
            </a:br>
            <a:br>
              <a:rPr sz="16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Vynětí ze ZPF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okud je to v kvartelu Moravy - 1Ha cca 54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40% se po zaplacení vrátí městu Hodonín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- 20 ha x 540 000 Kč = 10,8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 – 50 ha x 540 000 Kč = 27 mil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Vráceno městu 40% 15,12 mil. Kč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Celkem za vynětí ZPF 22,7 mil. Kč</a:t>
            </a: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3:43:23Z</dcterms:created>
  <dc:creator>Kubrická</dc:creator>
  <dc:description/>
  <dc:language>en-US</dc:language>
  <cp:lastModifiedBy>Kubrická</cp:lastModifiedBy>
  <dcterms:modified xsi:type="dcterms:W3CDTF">2005-05-02T07:59:30Z</dcterms:modified>
  <cp:revision>17</cp:revision>
  <dc:subject/>
  <dc:title>Snímek 1</dc:title>
</cp:coreProperties>
</file>